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26D-9C66-4BB0-8F35-9731D37A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29F-02BE-4EDC-B611-93AE27F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4CE-6201-4ADD-8668-7C22273C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F5A-72FD-42C3-848F-DD7581C0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A6B-EADD-4A6F-BC3D-AE0A970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5EA-358C-4B20-B4C7-B05CD109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98A-82B0-4E8A-B5CE-3561043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65C-986A-4C66-8074-0E59C5F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C17-0F45-46D9-9877-BD1157D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4A0-1FC2-48D2-A7D1-BCBA7488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694-0A1A-42D2-BEA9-106A7D1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20B-98FF-44B1-A6EB-D3A3B6A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8ABC-4D92-4A5A-936B-C3DF3CDE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arrysclipart.com/barrysclipart.com/showphoto.php?photo=17762&amp;size=big&amp;papass=&amp;sort=1&amp;thecat=18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Rat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16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43400" y="2616120"/>
            <a:ext cx="4800600" cy="424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17204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Scal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Maps and Scale Diagrams is an important life skill.  The key is understanding rat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p or architectural drawing uses scales or ratios.  This means that they are an exact smaller version of the real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knowing the scale, a map or drawing cannot be interpr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200400"/>
            <a:ext cx="32734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75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228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e scale of the map.  With this kind of scale, you can use a ruler and compare it to the scale, to find out approximately how many miles or kilometers it is 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lace to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5867280"/>
            <a:ext cx="1600200" cy="609840"/>
          </a:xfrm>
          <a:prstGeom prst="ellipse">
            <a:avLst/>
          </a:prstGeom>
          <a:solidFill>
            <a:srgbClr val="80008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91320" y="4571640"/>
            <a:ext cx="609480" cy="685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601992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7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to the scale.  Make an estimate from th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with a ruler the distance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90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133720" cy="366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is method, estimate the distance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 Falls to Har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iestown to Doak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nt John to Frederic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housie to St.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54760"/>
            <a:ext cx="2133720" cy="1797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we use the expression, “as the crow flies” which means a straight line.  Find the distance “as the crow flie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631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7080" y="643716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atio,  what is the scale of this dia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cale of the house plan, calculate the area of each 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7391520" cy="510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971800"/>
            <a:ext cx="313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unt the number of blocks in the bottom right bed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et up a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:1  = 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13 : </a:t>
            </a: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45720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write as fractions and 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 = 3.2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77920" y="601992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Rewrite as a fraction and cross multi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 = 3.2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2438280" cy="916920"/>
          </a:xfrm>
          <a:prstGeom prst="rect">
            <a:avLst/>
          </a:prstGeom>
          <a:solidFill>
            <a:srgbClr val="333399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length x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3.25 m x 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10.5625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638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86600" y="3809880"/>
            <a:ext cx="0" cy="1828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60" y="1676520"/>
            <a:ext cx="210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scal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blocks : 1 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5294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72920" y="453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" y="533412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w do the same for the length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: 1 = 13 : </a:t>
            </a:r>
            <a:r>
              <a:rPr b="1" lang="el-GR" sz="1800" spc="-1" strike="noStrike">
                <a:solidFill>
                  <a:srgbClr val="cc0000"/>
                </a:solidFill>
                <a:latin typeface="Arial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54440" y="636120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scale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blocks  : 1 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6172200"/>
                <a:ext cx="22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791320" y="62485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3120" y="6521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96640" y="304920"/>
            <a:ext cx="265860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elp with Lounge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64120" y="1295280"/>
            <a:ext cx="693360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the lounge into two rectangles and then add th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9548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0"/>
            <a:ext cx="1143000" cy="3385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the blocks across the room and set up a ratio using the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362320"/>
            <a:ext cx="3276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73360" y="2514600"/>
            <a:ext cx="1285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52680" y="2438280"/>
                <a:ext cx="908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468080" y="2971800"/>
            <a:ext cx="175644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5720" y="3505320"/>
            <a:ext cx="99324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5 m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0720" y="1905120"/>
            <a:ext cx="86220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7040" y="2627280"/>
            <a:ext cx="1235160" cy="14655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ame for the length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362320"/>
            <a:ext cx="0" cy="2743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00800" y="3048120"/>
                <a:ext cx="887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16040" y="4267080"/>
            <a:ext cx="175644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74640" y="4687920"/>
            <a:ext cx="120204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4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11800" y="4038480"/>
            <a:ext cx="117900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105520"/>
            <a:ext cx="7372440" cy="1067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have now found the length and width of this part of the ro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Length x Wid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5 m x 4.2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21.25 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9360" y="4648320"/>
            <a:ext cx="191196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= 21.25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888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256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068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700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297180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2133720"/>
            <a:ext cx="1616040" cy="31114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ame for this part of the lou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you find the area, you add the two parts to find the total area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971800"/>
            <a:ext cx="1981080" cy="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9718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02360" y="2362320"/>
            <a:ext cx="1221480" cy="3682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4320" y="4343400"/>
            <a:ext cx="1143720" cy="36828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1219320"/>
                <a:ext cx="1219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86400" y="3200400"/>
                <a:ext cx="1066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700560" y="5791320"/>
            <a:ext cx="8009640" cy="368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length and width of the room using ratios and use A=Lx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560" y="6400800"/>
            <a:ext cx="9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add the two parts of the room to get the area of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ced Ski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If the walls are 1.3 meters high, and you ignore doors and windows, how many cans of paint will it take to paint the three bedrooms if 4 litres of paint are required to cover 9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Remember that you cannot buy cans of paint smaller than 4 litr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much will it cost if a 4 litre can of paint costs $35.9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91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45:23Z</dcterms:created>
  <dc:creator>admin</dc:creator>
  <dc:description/>
  <dc:language>en-US</dc:language>
  <cp:lastModifiedBy>admin</cp:lastModifiedBy>
  <dcterms:modified xsi:type="dcterms:W3CDTF">2007-12-03T21:25:24Z</dcterms:modified>
  <cp:revision>16</cp:revision>
  <dc:subject/>
  <dc:title>Scale Ratios </dc:title>
</cp:coreProperties>
</file>